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4FD9-7A2F-4D5B-A9B2-DDBD7C7ACA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972-3062-4B6C-8FF4-9F86034E47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ADF0-9F16-4291-BEF6-611088FB2D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E6D-54A3-43DA-8990-BC20D34E2C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842-93B9-454D-9341-06E7AB8331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316-63E3-42A4-A275-F31D898D5B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B1B-854E-412E-B82A-95D7478C966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940F-F308-43CB-994A-559DEAAEDD3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7A64-FCFD-47A2-9F3A-C6DAAAA726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88A-A864-4C41-9B71-771B832466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7D63-DFDD-4805-9A84-99293C11670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B92-6369-466E-A341-F61BBDF6E8C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3C1-9805-4204-AE76-DE527EA59E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8B6-83B0-45AE-A16F-FF2072D872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F8AC-1472-4E2D-96F5-373E972FA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434-AB9A-4AE1-B347-03EA9A15F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B64A-DD0F-4296-8B16-64737511E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2304-A0B7-4B38-898E-34F72144D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16A7-F559-49CB-9869-E60A15609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5CD5-F0EA-47D4-8F12-AF9905E2B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B1AA-5614-49E1-908E-9EE1EB3A7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9EC1-D581-4C3F-8D4A-95C8A484E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6CD8-6C6D-4685-9F64-0B4179D54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1A32-7E1D-4810-BDC5-916E361CC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9E79-763A-49E9-B48A-D06520F49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AA94-C62F-4921-93B5-246F414E7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CFE-C955-497E-83A2-53C19F4EAB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4076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32472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197000"/>
          <a:ext cx="8136000" cy="2948040"/>
        </p:xfrm>
        <a:graphic>
          <a:graphicData uri="http://schemas.openxmlformats.org/drawingml/2006/table">
            <a:tbl>
              <a:tblPr/>
              <a:tblGrid>
                <a:gridCol w="1150920"/>
                <a:gridCol w="4753080"/>
                <a:gridCol w="223200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자료 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2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4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과제는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발표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6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으로 구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468360" y="5805360"/>
            <a:ext cx="820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1</cp:lastModifiedBy>
  <cp:lastPrinted>2020-02-04T06:07:16Z</cp:lastPrinted>
  <dcterms:modified xsi:type="dcterms:W3CDTF">2022-09-13T01:03:27Z</dcterms:modified>
  <cp:revision>123</cp:revision>
  <dc:subject/>
  <dc:title>2006년도 식품의약품안전청 공개발표 선정평가    ℹ 사 업 명 :   ℹ 과 제 명 :   ℹ 연 구 비 :   ℹ 신청기관 :   ℹ 주관연구책임자 :</dc:title>
</cp:coreProperties>
</file>